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F190-EAA2-442A-A021-94F5B850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ED2B-C840-4946-8222-D3562A4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08DA-522C-442F-A3AC-0ED25693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CAD8-3CDA-4877-A253-802E15D6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A590-26FA-4A24-8D3F-71BC2D3B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32E-17C5-4ED4-849E-85B9C26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4FA5-68BC-4852-B652-D525513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C0B1-7F12-4E77-9586-CACC20AA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DB0C-4267-4B89-8437-FAFE739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9CD-F222-4304-A561-7EF6A90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7FB-D8A5-40AF-884C-35ACF6B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8660-B9CA-4E79-89B4-D120348A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31D-058F-4937-9A13-82714C7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EB0-442D-49A9-A64F-3C51652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B37-E750-49B5-8EF4-93E00F78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69B5-8E5D-4F74-A233-221C18C8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5101-096A-497F-BA88-EE40B1D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B436-931C-4472-8CDC-B5677C83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ADE1-B009-448E-A2F8-9ECCC01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89EE-D825-468E-B48C-A331587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16E5-6ACF-4D54-8747-C3C29FC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ECBB-514D-4289-8011-5FDC5DA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DF5D-7671-43FE-8A59-A20BDA8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C3FA-A33E-4A18-812C-6F78446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3C6D-F5D7-4E7D-BB1E-444D2810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8491-7925-4444-82A9-3BDD2B494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3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property of water allows a water strider to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k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 wat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s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d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Give an example of ea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s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phob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phil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bstances. Give an example of ea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00"/>
              </a:buClr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vaporative C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Water has high heat of vapor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Molecules with greatest KE leave as g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Stable temp in lakes &amp; p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Cool pl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Human sw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_x001c_03-04-EvaporativeCooling.jpg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4191120" y="358128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3712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spcBef>
                <a:spcPts val="901"/>
              </a:spcBef>
              <a:buClr>
                <a:srgbClr val="ffcc00"/>
              </a:buClr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nsulation by i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– less dense, floating ice insulates liquid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 be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90080" indent="-720720">
              <a:spcBef>
                <a:spcPts val="799"/>
              </a:spcBef>
              <a:buClr>
                <a:srgbClr val="a886e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fe exists under frozen surface (ponds, lakes, ocea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90080" indent="-720720">
              <a:spcBef>
                <a:spcPts val="799"/>
              </a:spcBef>
              <a:buClr>
                <a:srgbClr val="a886e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e = solid habitat (polar bea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20720" indent="-72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_x000f_03-06-Krill.jpg         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5867280" y="2209680"/>
            <a:ext cx="3075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Solvent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liquid, homogeneous mixture of 2+ substa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dissolving agent (liqu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dissolved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Water = versatile sol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3" descr="03_07DissolvingSalt-L.jpg"/>
          <p:cNvPicPr/>
          <p:nvPr/>
        </p:nvPicPr>
        <p:blipFill>
          <a:blip r:embed="rId1"/>
          <a:stretch/>
        </p:blipFill>
        <p:spPr>
          <a:xfrm>
            <a:off x="5943600" y="3886200"/>
            <a:ext cx="2895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Solvent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ke dissolves like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2438280"/>
          <a:ext cx="7619760" cy="38862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phil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phob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ffinity for H</a:t>
                      </a:r>
                      <a:r>
                        <a:rPr b="0" lang="en-US" sz="28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pel H</a:t>
                      </a:r>
                      <a:r>
                        <a:rPr b="0" lang="en-US" sz="28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, 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onpo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ellulose, sugar, sa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ils, lip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l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ell membra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gure 3.8  A water-soluble protei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1" descr="03_08WaterSolubleProtein-L.jpg"/>
          <p:cNvPicPr/>
          <p:nvPr/>
        </p:nvPicPr>
        <p:blipFill>
          <a:blip r:embed="rId1"/>
          <a:stretch/>
        </p:blipFill>
        <p:spPr>
          <a:xfrm>
            <a:off x="914400" y="685800"/>
            <a:ext cx="76471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396252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gains proton) 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1" lang="en-US" sz="3200" spc="-1" strike="noStrike" baseline="30000">
                <a:solidFill>
                  <a:srgbClr val="ff0000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ydronium 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loses proton)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–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Garamond"/>
              </a:rPr>
              <a:t>OH</a:t>
            </a:r>
            <a:r>
              <a:rPr b="1" lang="en-US" sz="4400" spc="-1" strike="noStrike" baseline="30000">
                <a:solidFill>
                  <a:srgbClr val="00b0f0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00b0f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b0f0"/>
                </a:solidFill>
                <a:latin typeface="Garamond"/>
              </a:rPr>
              <a:t>hydroxide 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809880" y="4191120"/>
            <a:ext cx="610200" cy="154080"/>
            <a:chOff x="3809880" y="4191120"/>
            <a:chExt cx="610200" cy="154080"/>
          </a:xfrm>
        </p:grpSpPr>
        <p:cxnSp>
          <p:nvCxnSpPr>
            <p:cNvPr id="141" name="Straight Arrow Connector 4"/>
            <p:cNvCxnSpPr/>
            <p:nvPr/>
          </p:nvCxnSpPr>
          <p:spPr>
            <a:xfrm>
              <a:off x="3809880" y="4191120"/>
              <a:ext cx="6105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42" name="Straight Arrow Connector 6"/>
            <p:cNvCxnSpPr/>
            <p:nvPr/>
          </p:nvCxnSpPr>
          <p:spPr>
            <a:xfrm>
              <a:off x="3809880" y="4343400"/>
              <a:ext cx="6105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</p:cxnSp>
      </p:grpSp>
      <p:pic>
        <p:nvPicPr>
          <p:cNvPr id="143" name="Picture 3" descr="03_UN02DissociationWater-L.jpg"/>
          <p:cNvPicPr/>
          <p:nvPr/>
        </p:nvPicPr>
        <p:blipFill>
          <a:blip r:embed="rId1"/>
          <a:stretch/>
        </p:blipFill>
        <p:spPr>
          <a:xfrm>
            <a:off x="1219320" y="1523880"/>
            <a:ext cx="69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6002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Garamond"/>
              </a:rPr>
              <a:t>Acid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= increases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ncentration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(HCl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f0"/>
                </a:solidFill>
                <a:uFillTx/>
                <a:latin typeface="Garamond"/>
              </a:rPr>
              <a:t>Base</a:t>
            </a:r>
            <a:r>
              <a:rPr b="0" lang="en-US" sz="3600" spc="-1" strike="noStrike">
                <a:solidFill>
                  <a:srgbClr val="00b0f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= reduces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ncentration </a:t>
            </a:r>
            <a:r>
              <a:rPr b="0" lang="en-US" sz="3600" spc="-1" strike="noStrike">
                <a:solidFill>
                  <a:srgbClr val="00b0f0"/>
                </a:solidFill>
                <a:latin typeface="Garamond"/>
              </a:rPr>
              <a:t>(NaOH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ＭＳ Ｐゴシック"/>
              </a:rPr>
              <a:t>Most biological fluids are pH 6-8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736560" y="4267080"/>
            <a:ext cx="7721640" cy="2315880"/>
            <a:chOff x="736560" y="4267080"/>
            <a:chExt cx="7721640" cy="2315880"/>
          </a:xfrm>
        </p:grpSpPr>
        <p:grpSp>
          <p:nvGrpSpPr>
            <p:cNvPr id="147" name="Group 11"/>
            <p:cNvGrpSpPr/>
            <p:nvPr/>
          </p:nvGrpSpPr>
          <p:grpSpPr>
            <a:xfrm>
              <a:off x="913680" y="4952880"/>
              <a:ext cx="7163640" cy="304560"/>
              <a:chOff x="913680" y="4952880"/>
              <a:chExt cx="7163640" cy="3045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4571640" y="4952880"/>
                <a:ext cx="3505680" cy="3045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Rectangle 9"/>
              <p:cNvSpPr/>
              <p:nvPr/>
            </p:nvSpPr>
            <p:spPr>
              <a:xfrm>
                <a:off x="913680" y="4952880"/>
                <a:ext cx="3505680" cy="30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Rectangle 10"/>
              <p:cNvSpPr/>
              <p:nvPr/>
            </p:nvSpPr>
            <p:spPr>
              <a:xfrm>
                <a:off x="4419360" y="4952880"/>
                <a:ext cx="152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1" name="TextBox 12"/>
            <p:cNvSpPr/>
            <p:nvPr/>
          </p:nvSpPr>
          <p:spPr>
            <a:xfrm>
              <a:off x="736560" y="527220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TextBox 13"/>
            <p:cNvSpPr/>
            <p:nvPr/>
          </p:nvSpPr>
          <p:spPr>
            <a:xfrm>
              <a:off x="4293720" y="52700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Box 14"/>
            <p:cNvSpPr/>
            <p:nvPr/>
          </p:nvSpPr>
          <p:spPr>
            <a:xfrm>
              <a:off x="7772400" y="527004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14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5562360" y="426708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Basic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Box 17"/>
            <p:cNvSpPr/>
            <p:nvPr/>
          </p:nvSpPr>
          <p:spPr>
            <a:xfrm>
              <a:off x="1980360" y="4267080"/>
              <a:ext cx="16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Acidic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6" name="TextBox 19"/>
          <p:cNvSpPr/>
          <p:nvPr/>
        </p:nvSpPr>
        <p:spPr>
          <a:xfrm>
            <a:off x="3124080" y="586728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H Scal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3.10  The pH scale and pH values of some aqueous solution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1" descr="03_10_pHScale-L.jpg"/>
          <p:cNvPicPr/>
          <p:nvPr/>
        </p:nvPicPr>
        <p:blipFill>
          <a:blip r:embed="rId1"/>
          <a:stretch/>
        </p:blipFill>
        <p:spPr>
          <a:xfrm>
            <a:off x="2236680" y="636480"/>
            <a:ext cx="51548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lculating p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[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 =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-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, then 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 = -log [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Char char="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log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-(-2) =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fore, pH =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log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4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-(-4) =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fore, pH =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uff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minimize changes in concentra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a solution (weak acids and ba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ffers keep blood at pH ~7.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blood drops to 7 or up to 7.8, then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arbonic Acid – Bicarbonate Syst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important buffers in blood plas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5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35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(carbonic acid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(bicarbonate)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er and the Fitness of the Environ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03_11OceanAcidification-L.jpg"/>
          <p:cNvPicPr/>
          <p:nvPr/>
        </p:nvPicPr>
        <p:blipFill>
          <a:blip r:embed="rId1"/>
          <a:stretch/>
        </p:blipFill>
        <p:spPr>
          <a:xfrm>
            <a:off x="85680" y="1295280"/>
            <a:ext cx="2581200" cy="4348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03_12_ImpactCoralReef-L.jpg"/>
          <p:cNvPicPr/>
          <p:nvPr/>
        </p:nvPicPr>
        <p:blipFill>
          <a:blip r:embed="rId2"/>
          <a:stretch/>
        </p:blipFill>
        <p:spPr>
          <a:xfrm>
            <a:off x="2666880" y="1981080"/>
            <a:ext cx="6413760" cy="2698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7632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ean acidification threatens coral reef eco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28600" y="59436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ixed with seawat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arbonic acid (lowers ocean p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ffects of acid precipitation on a fores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4" descr="_x0012_03-10-AcidRain.jpg    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76320" y="609480"/>
            <a:ext cx="8991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0"/>
          <a:ext cx="9144000" cy="6784920"/>
        </p:xfrm>
        <a:graphic>
          <a:graphicData uri="http://schemas.openxmlformats.org/drawingml/2006/table">
            <a:tbl>
              <a:tblPr/>
              <a:tblGrid>
                <a:gridCol w="2895480"/>
                <a:gridCol w="32767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 Proper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emical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amples of Benefits to Li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he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ke-li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↑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ravity plants, tr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dhe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nlike-unli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lants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xy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lood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e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rface Ten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ff. in stre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reak su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ugs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pecific H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bsorbs &amp; retains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cean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d temp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rotect marine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vapo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quid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o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omeosta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niversal Sub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ity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ood dissol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ol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mportance of hydrogen bonding to the properties of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unique properties of water, and how each contributes to life on Ear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interpret the pH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mportance of buffers in biological syst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Polarity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ll bond with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 a different molecule of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=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hydrogen b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can form up to 4 b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03_02HBondWater-L.jpg"/>
          <p:cNvPicPr/>
          <p:nvPr/>
        </p:nvPicPr>
        <p:blipFill>
          <a:blip r:embed="rId1"/>
          <a:stretch/>
        </p:blipFill>
        <p:spPr>
          <a:xfrm>
            <a:off x="2971800" y="3427560"/>
            <a:ext cx="32767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H-bonding 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rface Tens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measure of how difficult it is to break or stretch surface of liqu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_x0016_03-03-WaterStrider.jpg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2666880" y="335916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bonding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li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hesion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to vessel walls counters ↓ pull of gra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00400" y="34099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ranspiration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movement of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up 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ngs to each other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cohes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cling to xylem tubes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adhe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_x0018_03-02-WaterTransport.jpg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2057400" y="3352680"/>
            <a:ext cx="54864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Total amount of KE in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measure intensit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ue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KE of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has higher tem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he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322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ter</a:t>
            </a:r>
            <a:r>
              <a:rPr b="0" lang="ja-JP" sz="36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igh specific he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temp less when absorbs/loses h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bodies of water absorb and store more hea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armer coast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stable marine/land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s ~65%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able temp, resist temp.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3" descr="03_05EffectWaterClimate-L.jpg"/>
          <p:cNvPicPr/>
          <p:nvPr/>
        </p:nvPicPr>
        <p:blipFill>
          <a:blip r:embed="rId1"/>
          <a:stretch/>
        </p:blipFill>
        <p:spPr>
          <a:xfrm>
            <a:off x="3124080" y="4343400"/>
            <a:ext cx="5716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local</cp:lastModifiedBy>
  <dcterms:modified xsi:type="dcterms:W3CDTF">2012-09-06T14:52:06Z</dcterms:modified>
  <cp:revision>41</cp:revision>
  <dc:subject/>
  <dc:title>Warm-Up</dc:title>
</cp:coreProperties>
</file>